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FCA-D968-412E-93BE-26FE41689B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B4FE-9228-4BDA-ADB8-A2E8C903CB4A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6AC-5A7F-4182-9F78-881B4644C61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4AC7-86FD-496A-B37C-D1B2A347C2A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6B9-23FE-44C7-BE3E-7370C91D718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6D5-147C-46A4-9A0E-6C1275BD8D8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429-A8B3-4CFD-BFB7-B012576581B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F91-E7CD-433B-82BB-F79C8138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03D-1C81-4746-932E-14779A6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9AE-9BA5-468C-BF32-5DFA11FD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1EA-2273-40BD-92EC-8436C5CA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FEBC-4312-4BE8-8659-C9EAEB21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91F6-3E85-4E49-8665-955E07E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2D69-AA43-4E07-8B87-8F0DE43F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23E0-1C23-4C7D-8687-4752DAE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17B6-F8A6-416A-BD56-97FBA242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F47-987A-4A49-90E1-FF82EAAB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AA0-D770-43C2-A551-FEC9F75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DD9-EC87-43B7-BEA0-9BF4CF0F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9F86-DB47-484F-93CD-40709AFC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10F6-F957-4015-94B4-040DFCF1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3A2-539B-4732-87A7-70DFE9E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126-910A-45FD-A9BA-62D8E228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52BA-AD66-473A-A504-B64BB800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AEB-9B6D-4B60-BE51-BDB00CF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82C-A160-4893-8A7D-39E47AEA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7AE-7C18-4069-AC2A-18BBC7E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6A6-63F9-4535-A6A2-63610185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C31-E995-45C5-83A8-BA56A3F9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506-676C-4BFD-920A-ACB9EF1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DC1-59DB-4EF1-845D-1DB0850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E9B-E29E-4D08-9229-F7D97972D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950B-6B7D-40EC-9126-37E24DEED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7080" y="177480"/>
            <a:ext cx="46483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’es branché! – Lev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486040" y="3428640"/>
            <a:ext cx="34290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1 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isir, Maigrir, Groissir,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verbes -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905120"/>
            <a:ext cx="77724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verbes qui terminent avec –ir appartiennent au deuxième groupe de verb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ici la conjuga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09480" y="4052880"/>
            <a:ext cx="37339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e cho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u cho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/elle/on choi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09880" y="4052880"/>
            <a:ext cx="48769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u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/elle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verbes -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verbes comme choisir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a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s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g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z par tr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ez vos grou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cun dans le groupe doit prendre un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 les cartes que je vous ai données, écrivez le sui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– nous / gros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– tu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– elle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– on /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– vous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 – je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ntenant, je vais jouer de la mus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ndant que je joue la musique, vous devez passer la carte que vous avez à la personne à dro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d j’arrête la musique, je vais annoncer un numé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ersonne avec cette carte doit écrire la conjuga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groupe avec la réponse correcte, touche u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us avez comp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ons-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– Ro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– nous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– tu /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– elle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– on / gros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– vous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 – je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LAVIGNE,MARIE</cp:lastModifiedBy>
  <dcterms:modified xsi:type="dcterms:W3CDTF">2016-09-06T13:42:44Z</dcterms:modified>
  <cp:revision>80</cp:revision>
  <dc:subject/>
  <dc:title>Allez, viens! – Level 2</dc:title>
</cp:coreProperties>
</file>